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A63-C9D8-4B34-BEE9-04123790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F1C-2BA7-4479-B0E3-14B8596C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B1F-B954-494B-AC4B-FC55A025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E27-A1D2-44CD-8CEE-B847C244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9328-B3BC-4077-BB64-9F481861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9074-8672-48DD-91F1-93F0C8EC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76B3-8C98-446D-B421-0A7AC14A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E5DC-F9DA-4E89-8007-B77AAECC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00D5-D9AE-4BE7-AB7A-B4DBE035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B507-34FF-4CFD-9858-213CDFA3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3603-9201-40EE-9411-043685DC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048-F16D-42CA-A9DA-4AF423FC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A286-EE2F-40EE-9571-13AB27EF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1066-3A2C-44A5-AE46-461CA8D4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0E8D-2240-4F7A-A39B-FE966B79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2194-6DCE-484B-B83A-95FB4234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1ECF-40FC-4ADA-88EF-A9880791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EF9-A18A-4128-B808-EA786951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C79-CCA3-4A76-9B41-E3423660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B57-0FAD-4FB8-8730-DE0EB1A4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8CF-B7D9-48D1-ABBF-901C0A77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82C-A195-4DDA-9B90-C31BDF49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4EC-B091-4151-8E17-3FF44DBD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AD5-2786-4DD7-869A-5F83721D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5A0A-439D-48DD-BD54-53E56A6BE1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CF29-341D-46A0-A302-2FA9FB61D2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2400" y="285480"/>
            <a:ext cx="9067680" cy="1390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HAPTER ONE: The Colonial South,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rom their origins to the 1750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11760" y="533376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 2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8" descr="Carolinas&amp;Georgia"/>
          <p:cNvPicPr/>
          <p:nvPr/>
        </p:nvPicPr>
        <p:blipFill>
          <a:blip r:embed="rId1"/>
          <a:stretch/>
        </p:blipFill>
        <p:spPr>
          <a:xfrm>
            <a:off x="152280" y="1676520"/>
            <a:ext cx="389592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. Mary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5105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nded 1630s as an individual proprietorship-run by Cecil Calvert (Lord Baltimore II) and fami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atholic ha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Calvertcecil"/>
          <p:cNvPicPr/>
          <p:nvPr/>
        </p:nvPicPr>
        <p:blipFill>
          <a:blip r:embed="rId1"/>
          <a:stretch/>
        </p:blipFill>
        <p:spPr>
          <a:xfrm>
            <a:off x="6019920" y="1676520"/>
            <a:ext cx="2828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close-up map of the Chesapeak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Picture1"/>
          <p:cNvPicPr/>
          <p:nvPr/>
        </p:nvPicPr>
        <p:blipFill>
          <a:blip r:embed="rId1"/>
          <a:stretch/>
        </p:blipFill>
        <p:spPr>
          <a:xfrm>
            <a:off x="914400" y="709560"/>
            <a:ext cx="732456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yland in transi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atholic Haven yet freedom of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apital: St. Mary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stmarys_0008"/>
          <p:cNvPicPr/>
          <p:nvPr/>
        </p:nvPicPr>
        <p:blipFill>
          <a:blip r:embed="rId1"/>
          <a:stretch/>
        </p:blipFill>
        <p:spPr>
          <a:xfrm>
            <a:off x="228600" y="2362320"/>
            <a:ext cx="4267080" cy="4225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stmarys_0011"/>
          <p:cNvPicPr/>
          <p:nvPr/>
        </p:nvPicPr>
        <p:blipFill>
          <a:blip r:embed="rId2"/>
          <a:stretch/>
        </p:blipFill>
        <p:spPr>
          <a:xfrm>
            <a:off x="4572000" y="266688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920480" y="601992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(Reconstructed old State House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yland in transition (cont’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otestants take over and persecute Catholics after 16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hurches destro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apital moved to Annapo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alvert family (now protestants) regain control in 17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. Flori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565-Pedro Menendez / St. August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panish missions on the Florida co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staugD"/>
          <p:cNvPicPr/>
          <p:nvPr/>
        </p:nvPicPr>
        <p:blipFill>
          <a:blip r:embed="rId1"/>
          <a:stretch/>
        </p:blipFill>
        <p:spPr>
          <a:xfrm>
            <a:off x="152280" y="32004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staugC"/>
          <p:cNvPicPr/>
          <p:nvPr/>
        </p:nvPicPr>
        <p:blipFill>
          <a:blip r:embed="rId2"/>
          <a:stretch/>
        </p:blipFill>
        <p:spPr>
          <a:xfrm>
            <a:off x="4343400" y="2743200"/>
            <a:ext cx="449568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orida – a different path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32763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Role of African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are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aven for runa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763-British seiz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castillo"/>
          <p:cNvPicPr/>
          <p:nvPr/>
        </p:nvPicPr>
        <p:blipFill>
          <a:blip r:embed="rId1"/>
          <a:stretch/>
        </p:blipFill>
        <p:spPr>
          <a:xfrm>
            <a:off x="3505320" y="1447920"/>
            <a:ext cx="56386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V. Georg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James Oglethorpe &amp; The Georgia Trust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oals of the Founding of Georg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oglethorpe"/>
          <p:cNvPicPr/>
          <p:nvPr/>
        </p:nvPicPr>
        <p:blipFill>
          <a:blip r:embed="rId1"/>
          <a:stretch/>
        </p:blipFill>
        <p:spPr>
          <a:xfrm>
            <a:off x="5486400" y="13716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orgia in transi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Restrictive Policies of the Trust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mit land ow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o slaves, no rum, no law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eorgia becomes Royal Colony in 17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la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. The Carolin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Overflow settlers into northeast NC 1650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arolina (Latin name for King Charles) founded in 167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outh Carolina settled by Barbados plan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NC and SC split in 17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. North Carol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ackcountry vs. Coastal Sett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uscarora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C in compar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Content Placeholder 2" descr=""/>
          <p:cNvPicPr/>
          <p:nvPr/>
        </p:nvPicPr>
        <p:blipFill>
          <a:blip r:embed="rId1"/>
          <a:stretch/>
        </p:blipFill>
        <p:spPr>
          <a:xfrm>
            <a:off x="365040" y="1523880"/>
            <a:ext cx="83217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. South Carol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m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arly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715 Yemassee War and Native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evelopment of Rice and African Sla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on South Carol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harleston hardship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mallpox (173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ono Rebellion (173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re (174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evelopment of Indigo, 1750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ealth of Plan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urpose(s) did the Chesapeake colonies (Virginia and Maryland) ser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what way(s) were Florida’s and Georgia’s histories, together, different from the Chesapeake colon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haracteristic(s) united the southern colon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I. Virginia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Jamestown- 160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104 Men and Bo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Poor Lo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Colonists won’t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Interaction with Indi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Jamestown"/>
          <p:cNvPicPr/>
          <p:nvPr/>
        </p:nvPicPr>
        <p:blipFill>
          <a:blip r:embed="rId1"/>
          <a:stretch/>
        </p:blipFill>
        <p:spPr>
          <a:xfrm>
            <a:off x="4191120" y="2362320"/>
            <a:ext cx="4495680" cy="28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John Smith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3" descr="Beat Brains"/>
          <p:cNvPicPr/>
          <p:nvPr/>
        </p:nvPicPr>
        <p:blipFill>
          <a:blip r:embed="rId1"/>
          <a:stretch/>
        </p:blipFill>
        <p:spPr>
          <a:xfrm>
            <a:off x="5205240" y="1652760"/>
            <a:ext cx="2924280" cy="439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jsmith"/>
          <p:cNvPicPr/>
          <p:nvPr/>
        </p:nvPicPr>
        <p:blipFill>
          <a:blip r:embed="rId2"/>
          <a:stretch/>
        </p:blipFill>
        <p:spPr>
          <a:xfrm>
            <a:off x="789120" y="1600200"/>
            <a:ext cx="34351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ohn Rolfe and Pocahant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3" descr="RolfePoc Wedding"/>
          <p:cNvPicPr/>
          <p:nvPr/>
        </p:nvPicPr>
        <p:blipFill>
          <a:blip r:embed="rId1"/>
          <a:stretch/>
        </p:blipFill>
        <p:spPr>
          <a:xfrm>
            <a:off x="4343400" y="2438280"/>
            <a:ext cx="4443480" cy="318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ocahontas2"/>
          <p:cNvPicPr/>
          <p:nvPr/>
        </p:nvPicPr>
        <p:blipFill>
          <a:blip r:embed="rId2"/>
          <a:stretch/>
        </p:blipFill>
        <p:spPr>
          <a:xfrm>
            <a:off x="457200" y="1676520"/>
            <a:ext cx="346716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Virginia timeline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619:  House of Burgesses and Arrival of Afric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622: Indian Massacre: 347 kill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623: Richard Frethorne let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624: Royal Colo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obacco Boo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ndentured Serva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Mid-1600s: African slavery increas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inancial hardships for poorer whi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Bacon’s Rebellion-167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rginia on the rise(?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Virginia in the 1720s: emergence of the Gen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II-byrd"/>
          <p:cNvPicPr/>
          <p:nvPr/>
        </p:nvPicPr>
        <p:blipFill>
          <a:blip r:embed="rId1"/>
          <a:stretch/>
        </p:blipFill>
        <p:spPr>
          <a:xfrm>
            <a:off x="228600" y="2286000"/>
            <a:ext cx="3203640" cy="4089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5294ShirleyHomeCloserIMG_0022"/>
          <p:cNvPicPr/>
          <p:nvPr/>
        </p:nvPicPr>
        <p:blipFill>
          <a:blip r:embed="rId2"/>
          <a:stretch/>
        </p:blipFill>
        <p:spPr>
          <a:xfrm>
            <a:off x="3657600" y="22860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9:26:36Z</dcterms:created>
  <dc:creator>University of South Carolina</dc:creator>
  <dc:description/>
  <dc:language>en-US</dc:language>
  <cp:lastModifiedBy>J Franklin Williamson</cp:lastModifiedBy>
  <dcterms:modified xsi:type="dcterms:W3CDTF">2019-01-25T16:28:19Z</dcterms:modified>
  <cp:revision>13</cp:revision>
  <dc:subject/>
  <dc:title>Slide 1</dc:title>
</cp:coreProperties>
</file>